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907588"/>
  <p:notesSz cx="6858000" cy="9652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5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76560" y="723960"/>
            <a:ext cx="2503440" cy="36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584240"/>
            <a:ext cx="5029200" cy="4341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16740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16740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A214812-F6E8-4378-AB44-385936026BB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6200" y="91677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7219C07-AFCB-4C0B-A656-AC95DDDEA25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2176560" y="723960"/>
            <a:ext cx="2503440" cy="3618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584240"/>
            <a:ext cx="5029200" cy="43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AB9A-8EEB-44FD-A718-D37D1DE1A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CBA8-874C-49E0-9D9B-5A773B61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7A4C-C624-4807-BC39-E598411B2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81B2-EB9A-4D43-A44F-80FE4DAA9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5427-A0D5-44BF-B250-09A5CEB6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150C-C3DE-4DF6-8C74-382D23A9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B4D9-C25E-45E7-8779-99AA786E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A85A-6C6E-496D-9106-EA223555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DACE-514C-4D3A-98AB-8285D474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FC1B-26F9-48F7-B1C0-69C4767D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43BE-9F00-4D42-A35B-0473BFF3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BEF8-C8D6-4BE4-8854-642A20F2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913D-6C04-4736-A2D2-7770F62FA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73"/>
          <p:cNvGraphicFramePr/>
          <p:nvPr/>
        </p:nvGraphicFramePr>
        <p:xfrm>
          <a:off x="2781360" y="9155160"/>
          <a:ext cx="1368360" cy="44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27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81360" y="9155160"/>
                    <a:ext cx="136836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Text Box 294"/>
          <p:cNvSpPr/>
          <p:nvPr/>
        </p:nvSpPr>
        <p:spPr>
          <a:xfrm>
            <a:off x="404640" y="7761240"/>
            <a:ext cx="6120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pt-BR" sz="1100" spc="-1" strike="noStrike">
                <a:solidFill>
                  <a:srgbClr val="0000ff"/>
                </a:solidFill>
                <a:latin typeface="Verdana"/>
              </a:rPr>
              <a:t>Elaboração de Projeto Executivo para a Reforma e Repotencialização de 02 (duas) Estações de Captação Flutuantes Instaladas nos Canais de Aproximação das Estações de Bombeamento EBP e EB-02 do Perímetro Irrigado de Itiúba, no município de Porto Real do Colégio/AL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96"/>
          <p:cNvSpPr/>
          <p:nvPr/>
        </p:nvSpPr>
        <p:spPr>
          <a:xfrm flipV="1">
            <a:off x="404640" y="1135080"/>
            <a:ext cx="6120000" cy="14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03" descr="cODEVASF"/>
          <p:cNvPicPr/>
          <p:nvPr/>
        </p:nvPicPr>
        <p:blipFill>
          <a:blip r:embed="rId3"/>
          <a:stretch/>
        </p:blipFill>
        <p:spPr>
          <a:xfrm>
            <a:off x="4362480" y="588960"/>
            <a:ext cx="2089080" cy="4302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04"/>
          <p:cNvSpPr/>
          <p:nvPr/>
        </p:nvSpPr>
        <p:spPr>
          <a:xfrm>
            <a:off x="4292640" y="950760"/>
            <a:ext cx="230328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700" spc="-1" strike="noStrike">
                <a:solidFill>
                  <a:srgbClr val="0000ff"/>
                </a:solidFill>
                <a:latin typeface="Verdana"/>
              </a:rPr>
              <a:t>5ª Superintendência Regional-Penedo/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3360" y="1208160"/>
            <a:ext cx="63086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100" spc="-1" strike="noStrike">
                <a:solidFill>
                  <a:srgbClr val="18016d"/>
                </a:solidFill>
                <a:latin typeface="Tahoma"/>
              </a:rPr>
              <a:t>Companhia de Desenvolvimento dos Vales do São Francisco e do Parnaíba - CODEVAS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100" spc="-1" strike="noStrike">
                <a:solidFill>
                  <a:srgbClr val="18016d"/>
                </a:solidFill>
                <a:latin typeface="Tahoma"/>
              </a:rPr>
              <a:t>Secretaria Regional de Licitações – 5ª S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36640" y="8697960"/>
            <a:ext cx="54928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200" spc="-1" strike="noStrike">
                <a:solidFill>
                  <a:srgbClr val="1f018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1f018f"/>
                </a:solidFill>
                <a:latin typeface="Arial"/>
              </a:rPr>
              <a:t>PROJETO EXECUTIVO - 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4640" y="9416880"/>
            <a:ext cx="9241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io/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404640" y="1928880"/>
            <a:ext cx="6120000" cy="5759280"/>
            <a:chOff x="404640" y="1928880"/>
            <a:chExt cx="6120000" cy="5759280"/>
          </a:xfrm>
        </p:grpSpPr>
        <p:sp>
          <p:nvSpPr>
            <p:cNvPr id="58" name=""/>
            <p:cNvSpPr/>
            <p:nvPr/>
          </p:nvSpPr>
          <p:spPr>
            <a:xfrm>
              <a:off x="404640" y="1928880"/>
              <a:ext cx="6120000" cy="5759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31" descr="Viagem Codevasf- P"/>
            <p:cNvPicPr/>
            <p:nvPr/>
          </p:nvPicPr>
          <p:blipFill>
            <a:blip r:embed="rId4"/>
            <a:stretch/>
          </p:blipFill>
          <p:spPr>
            <a:xfrm>
              <a:off x="531720" y="2071800"/>
              <a:ext cx="2879640" cy="17269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60" name="Picture 33" descr="Viagem Codevasf- P"/>
            <p:cNvPicPr/>
            <p:nvPr/>
          </p:nvPicPr>
          <p:blipFill>
            <a:blip r:embed="rId5"/>
            <a:stretch/>
          </p:blipFill>
          <p:spPr>
            <a:xfrm>
              <a:off x="3500280" y="2071800"/>
              <a:ext cx="2880000" cy="17269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61" name="Picture 317" descr="Viagem Codevasf- P"/>
            <p:cNvPicPr/>
            <p:nvPr/>
          </p:nvPicPr>
          <p:blipFill>
            <a:blip r:embed="rId6"/>
            <a:stretch/>
          </p:blipFill>
          <p:spPr>
            <a:xfrm>
              <a:off x="531720" y="3944880"/>
              <a:ext cx="2879640" cy="17272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62" name="Picture 310" descr="Viagem Codevasf- P"/>
            <p:cNvPicPr/>
            <p:nvPr/>
          </p:nvPicPr>
          <p:blipFill>
            <a:blip r:embed="rId7"/>
            <a:stretch/>
          </p:blipFill>
          <p:spPr>
            <a:xfrm>
              <a:off x="3500280" y="3944880"/>
              <a:ext cx="2880000" cy="17272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63" name="Picture 24" descr="Viagem Codevasf- P"/>
            <p:cNvPicPr/>
            <p:nvPr/>
          </p:nvPicPr>
          <p:blipFill>
            <a:blip r:embed="rId8"/>
            <a:stretch/>
          </p:blipFill>
          <p:spPr>
            <a:xfrm>
              <a:off x="531720" y="5818320"/>
              <a:ext cx="2879640" cy="17269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64" name="Picture 28" descr="Viagem Codevasf- P"/>
            <p:cNvPicPr/>
            <p:nvPr/>
          </p:nvPicPr>
          <p:blipFill>
            <a:blip r:embed="rId9"/>
            <a:stretch/>
          </p:blipFill>
          <p:spPr>
            <a:xfrm>
              <a:off x="3500280" y="5818320"/>
              <a:ext cx="2880000" cy="17269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</p:grpSp>
      <p:sp>
        <p:nvSpPr>
          <p:cNvPr id="65" name=""/>
          <p:cNvSpPr/>
          <p:nvPr/>
        </p:nvSpPr>
        <p:spPr>
          <a:xfrm>
            <a:off x="333360" y="704880"/>
            <a:ext cx="40323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300" spc="-1" strike="noStrike">
                <a:solidFill>
                  <a:srgbClr val="18016d"/>
                </a:solidFill>
                <a:latin typeface="Tahoma"/>
              </a:rPr>
              <a:t>MINISTÉRIO DA INTEGRAÇÃO NACIONAL - M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30T15:36:27Z</dcterms:created>
  <dc:creator>NE-Consult</dc:creator>
  <dc:description/>
  <dc:language>en-US</dc:language>
  <cp:lastModifiedBy>N3</cp:lastModifiedBy>
  <cp:lastPrinted>2002-02-06T11:38:43Z</cp:lastPrinted>
  <dcterms:modified xsi:type="dcterms:W3CDTF">2009-05-22T19:29:40Z</dcterms:modified>
  <cp:revision>351</cp:revision>
  <dc:subject/>
  <dc:title>Slide sem título </dc:title>
</cp:coreProperties>
</file>